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8.jpeg" ContentType="image/jpeg"/>
  <Override PartName="/ppt/media/image13.jpeg" ContentType="image/jpeg"/>
  <Override PartName="/ppt/media/image28.wmf" ContentType="image/x-wmf"/>
  <Override PartName="/ppt/media/image35.jpeg" ContentType="image/jpeg"/>
  <Override PartName="/ppt/media/image10.png" ContentType="image/png"/>
  <Override PartName="/ppt/media/image12.jpeg" ContentType="image/jpeg"/>
  <Override PartName="/ppt/media/image34.png" ContentType="image/png"/>
  <Override PartName="/ppt/media/image23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6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8.wmf" ContentType="image/x-wmf"/>
  <Override PartName="/ppt/media/image2.jpeg" ContentType="image/jpeg"/>
  <Override PartName="/ppt/media/image1.png" ContentType="image/png"/>
  <Override PartName="/ppt/media/image15.jpeg" ContentType="image/jpeg"/>
  <Override PartName="/ppt/media/image26.wmf" ContentType="image/x-wmf"/>
  <Override PartName="/ppt/media/image16.png" ContentType="image/png"/>
  <Override PartName="/ppt/media/image20.wmf" ContentType="image/x-wmf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803B-0DD2-4BB7-A9F3-3D02FBC0DB7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E565-44E5-4883-8C82-37682810AC9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09FD-8DEF-4FE1-BABB-C0E0BD08B7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45D8-B459-4162-8498-ED6FB575B85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BC3-1E35-4A40-B0FA-F154E0E2A3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D96-B76C-4F95-AFE2-A53CBEB2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9CA-DD4E-487D-BA9F-156FBA65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D4DD3-C8E1-48A8-AB8E-C37C4A62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ABBAD-AC83-4CD7-A24E-A8A7A324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6AC72-7125-4671-B66A-8EAA82DD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B8A5D-F5A9-4149-A683-9C7AFEE5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1982A-5C19-4BDD-BB15-FFE67862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74092-9C58-4595-BD02-90DED1C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9B4C3-37B3-4C4B-8A12-FF42F8D5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5D9ED-A05E-4FF1-8792-F03D44E3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1BD08-775D-4902-9D54-E8B74F8D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B49EE-7ED5-40CF-84C2-444345F4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070-D67E-4B0B-952B-2DC54A92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B9728-70C8-4B12-BFEE-A8C9BD21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D863D-6780-4EB5-BB37-9BE36E51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641FE-C311-4D32-A25E-E08C1F09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0E51B-7EEF-4506-835E-2CCFE9C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3810F-C2F8-40F0-8BC5-54C0F3A6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C0AD2-3689-42A0-832B-EBF37A0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9F433-BED7-498E-BD04-1EE0655B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AFA92-B51E-475F-A79F-08537F1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C9BA6-06FE-4957-B312-4888A28D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199EB-DB04-471E-858C-83DA6ABF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438-3FF8-40EE-9AB6-AA96827E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83645-57CD-4D6C-9F07-E72F4AFD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96225-5A78-4BEC-BDEA-3AE66CA0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242B6-5549-4A27-8AED-A5E08467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069EF-7F5A-465B-B7A2-25845152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9507D-BAD2-453C-970B-20CCE22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81015-D31B-40A2-BB90-EC77252C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41AD7-0570-4F9E-B28F-314E206F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FCC26-9AD2-4508-87AD-33DC2FA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11238-867C-4244-8A4F-840565A2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BFCCB-973A-4865-AD44-34C2E667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AB78-D2E2-4012-B32B-BC93C561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51CF1-BBAE-4358-ACE1-FF3CB6AE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1DD0A-9CFF-4F09-B62F-7FCECB50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CA97E-49CD-418A-ABF7-5D698AC1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C1A7D-CDFD-4BB9-AC8C-E7285802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07FAE-84BB-4EB9-8FE4-EC9E233D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B2034-C7F5-47EA-8E2E-664F7C60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8C2B1-29B2-4647-B736-6204DCEC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6E863-187E-4346-BEC3-9E3A97DA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035AC-CC8A-4226-A2ED-7CFAEB4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DDF2A-E743-4D1D-88A7-03A73C4F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CCAF-497E-4DC1-A182-AE8E91E6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CF73B-7AF2-4D2C-9BC6-7253D6B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1DEBD-11FB-403F-B9CA-25CD02C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F3EFB-9D82-4BDE-964B-40430EFD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F9235-6B2F-4A9C-8597-F47DE4ED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4EEFB-8C1D-42F2-8A15-4CD79E5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51FEC-4609-4211-8B29-715BBFD9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772DC-6868-42CD-AC21-D23B5458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A440D-CB0D-4BB5-AEF9-BCA8836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077FE-3912-4852-ABA3-4B58DA02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BB1B6-BA3A-40EA-8AB4-F469F7D5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62A8-5667-47F1-A466-A70F19A6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DE36A-4A1F-43F4-8FBE-C29E9AD7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4CB4E-4025-4C8C-90E5-5F41703D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4D349-7DC8-45AC-BE68-021D4443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28E19-B5DE-4FDE-B877-09CC22AA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5AAF3-4BE5-4117-8CA3-F8B8DAA9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F94B6-0623-4A03-B5A7-655D08AB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C60CF-522F-4034-A349-F2577040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3483-68CE-4D46-A7DC-BBE20C6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64D2-E8E6-409E-B683-2209AD6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84ED-8BC9-4DE1-AE41-7BF2A579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F6A-4B86-4C3F-ABDC-B87C2A5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88F-B7A2-441C-81D0-3C0FC888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16A-51E7-4BCD-8AF3-56CDE472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B4A1-FAEE-4660-8900-D283EBB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3CA5-E555-4160-B615-F9B5FC9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3AE6-889C-49EA-99EC-DBF85F58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8EBD-9443-4FA2-9645-D956EF1C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648F-88A8-4C32-B549-A24A9076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8A1C-CDDC-407F-B4DC-380909E5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9164-631B-4E6F-AD4B-4B4303A1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414F-0D2D-4943-8E40-7A551425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B125-F612-4E3E-A158-8F0D6E94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4DC-0D48-4317-BC66-B213A6D4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24BB-435B-4501-A1A4-930C2FD8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49EF-9D73-4149-BDC9-450E9B8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51FF-31E6-481D-B443-7D6769AB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B620-9ED7-4242-B02D-1FD18D4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9D2E-9FB2-49F3-A78B-40296ADA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3A1C-75F2-4E17-A540-5CFE8B64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DD69-6D05-4544-9CA6-6F83A545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C9AE8-D13F-4F1B-887D-805220B2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B4B82-8A70-464E-8876-A3257FDF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C3832-E736-4B9E-8D89-3DC6E0C1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08B-C629-4121-B9D4-BE3C4609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FC22-3E8D-472C-B390-913C0789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D840-59FB-48CC-8BA4-E8852C9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DF6E0-F54C-4EDA-9253-347B9F4B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B48E-1F50-4E4C-85FE-423AA67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02D70-8CEC-49F4-BE50-1100A87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1CC8A-B495-4FB9-87F5-BCFF3B5F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8866-B518-4D55-8D19-2069DEDE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0A1C-74E2-4593-9323-7BFC98FD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D895-0896-4EDF-B209-D5DF016D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637AF-3FBF-4114-B740-30800C34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8E9-2298-4BBF-A541-CA50EFDB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E1AB-93EC-4232-9F0B-A90187CC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A8CBE-F301-4540-9E33-DDFD7B4D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99BC-F71B-475E-AC4A-CAD1A50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6298F-D53E-445C-8D94-41602CCD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CFFEB-B2BB-4230-9ECD-2A6BECD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13DD6-2253-4FB5-AEC3-78C83D7B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A39C-EB53-43E6-B041-81937F7F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D23D-E730-4CD8-93A6-BEE1428B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111BB-1ED1-4638-AA77-65844C44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0311-3DB5-4731-97D8-A798E203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329-C6B9-4411-AA9F-E42FB872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2954-D74D-48BE-9F35-B1B3640A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B47B4-6AF1-42C4-8752-9FC53EFF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F0855-8B46-436D-8B96-AB60B6A0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437CC-21C1-49FB-BE71-40F147FB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4495-53EE-4716-BDB8-955714ED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50D7-B7AA-4093-9371-B89AD883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1E805-4182-421B-BA15-DFF71C34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0D96-D6D0-4A1A-A440-124BEFAA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CD3E4-D4CB-43F4-B808-848A5FF0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309F3-ABBF-483D-AC2C-01A957B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D3C-0087-4092-BBCC-C5172416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4C586-8A12-4A5E-B38E-536F176C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839E9-1E9E-4565-BF7A-B05594D5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F452-9AA3-4179-A6B1-861D8371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BC5F-C08B-43B4-9204-5E93A7A9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11F9C-7266-4FB5-B598-8B3664F8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B0A95-BD53-4213-9E34-F5A7C741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B921C-F07A-42E8-89C3-A2C40CA7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91C9C-A2A8-4CC6-B5E6-ECC9EBE2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83BE3-7771-4B10-8ED6-D4A092B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6BBB4-CE65-4B3B-936B-90BCAF3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4CD-0C09-4F64-A982-80F29FA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73B29-6A67-4A7B-B799-19D1527A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53A4-1F79-434E-9076-F5C5F9C0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2A0CA-12B9-4D92-8BD7-F228181A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4579-E712-4A59-A88F-7726CDA5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96D8E-17E7-4126-92C5-351E4DC2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06C44-B842-4CA9-8A75-F367C26F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88827-83C7-40FD-B984-A5432962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E8846-72CA-4B26-90D6-7172EDFD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3566-1463-4FB4-803A-ACFD0D66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4A25-6AD5-4121-A764-63430E2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573-2B9C-41B6-B5D5-113B809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2AC3-D542-4789-85C5-F88C44A5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7A0F8-BA31-4E5F-ABC9-4F69258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2490C-F051-4069-9EFA-21447F3A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2D46D-D27E-4CCE-96E9-CD98E4F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6113-509F-4D20-8FC8-4B749F54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E7E3D-4E62-441C-9073-5A2A7C58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272C-83EE-429F-AF94-F8B74A12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8E24-003E-4B1E-9478-CDD8AA11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1A724-C730-45CC-8D73-493EE5CE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81AE6-952E-4451-B63F-EF627833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7316-4AA5-4D01-833D-5C1A5064F351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A460-4DE5-4C03-B702-A2BA06733E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D2E0-D561-485B-9802-F6AA17C2E0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E3A1-AB22-4FCF-BB15-35E1704CE4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F90-7E0B-4D33-871F-607FCB51BE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215E-C23F-4E26-8303-DA95E9405A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15E0-C8B8-4383-A080-4FF14F6AED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3EC3-95E3-4B9E-B3C2-7E3578F0EB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247E-45A3-49C1-8389-7681ADE616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C99D-1CA5-4A22-9533-5EAFBC4D03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6C14-F35E-4971-825E-7D51B2076A8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1AAA-2203-4996-A4F2-DD98EDDAA2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84C9-4905-468A-B645-38577CA261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541" name="Text Box 5"/>
          <p:cNvSpPr/>
          <p:nvPr/>
        </p:nvSpPr>
        <p:spPr>
          <a:xfrm>
            <a:off x="142920" y="1214280"/>
            <a:ext cx="882000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HIDRATOS de CARB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alato-aspar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1"/>
          <p:cNvGrpSpPr/>
          <p:nvPr/>
        </p:nvGrpSpPr>
        <p:grpSpPr>
          <a:xfrm>
            <a:off x="0" y="685800"/>
            <a:ext cx="5580000" cy="2238480"/>
            <a:chOff x="0" y="685800"/>
            <a:chExt cx="5580000" cy="2238480"/>
          </a:xfrm>
        </p:grpSpPr>
        <p:graphicFrame>
          <p:nvGraphicFramePr>
            <p:cNvPr id="660" name="Object 2"/>
            <p:cNvGraphicFramePr/>
            <p:nvPr/>
          </p:nvGraphicFramePr>
          <p:xfrm>
            <a:off x="0" y="1228680"/>
            <a:ext cx="5580000" cy="16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28680"/>
                      <a:ext cx="5580000" cy="16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Text Box 3"/>
            <p:cNvSpPr/>
            <p:nvPr/>
          </p:nvSpPr>
          <p:spPr>
            <a:xfrm>
              <a:off x="557280" y="6858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22"/>
          <p:cNvGrpSpPr/>
          <p:nvPr/>
        </p:nvGrpSpPr>
        <p:grpSpPr>
          <a:xfrm>
            <a:off x="0" y="3357720"/>
            <a:ext cx="5796000" cy="2950920"/>
            <a:chOff x="0" y="3357720"/>
            <a:chExt cx="5796000" cy="2950920"/>
          </a:xfrm>
        </p:grpSpPr>
        <p:graphicFrame>
          <p:nvGraphicFramePr>
            <p:cNvPr id="664" name="Object 6"/>
            <p:cNvGraphicFramePr/>
            <p:nvPr/>
          </p:nvGraphicFramePr>
          <p:xfrm>
            <a:off x="0" y="4079880"/>
            <a:ext cx="5796000" cy="222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079880"/>
                      <a:ext cx="579600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6" name="Text Box 7"/>
            <p:cNvSpPr/>
            <p:nvPr/>
          </p:nvSpPr>
          <p:spPr>
            <a:xfrm>
              <a:off x="534960" y="3357720"/>
              <a:ext cx="34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Times New Roman"/>
                </a:rPr>
                <a:t>Amilopectina o Gluc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23"/>
          <p:cNvGrpSpPr/>
          <p:nvPr/>
        </p:nvGrpSpPr>
        <p:grpSpPr>
          <a:xfrm>
            <a:off x="6929280" y="3214800"/>
            <a:ext cx="1873440" cy="1225800"/>
            <a:chOff x="6929280" y="3214800"/>
            <a:chExt cx="1873440" cy="1225800"/>
          </a:xfrm>
        </p:grpSpPr>
        <p:graphicFrame>
          <p:nvGraphicFramePr>
            <p:cNvPr id="668" name="Object 16"/>
            <p:cNvGraphicFramePr/>
            <p:nvPr/>
          </p:nvGraphicFramePr>
          <p:xfrm>
            <a:off x="6929280" y="3214800"/>
            <a:ext cx="1873440" cy="89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9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29280" y="3214800"/>
                      <a:ext cx="1873440" cy="89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0" name="Text Box 17"/>
            <p:cNvSpPr/>
            <p:nvPr/>
          </p:nvSpPr>
          <p:spPr>
            <a:xfrm>
              <a:off x="7365600" y="4041720"/>
              <a:ext cx="112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Text Box 18"/>
          <p:cNvSpPr/>
          <p:nvPr/>
        </p:nvSpPr>
        <p:spPr>
          <a:xfrm>
            <a:off x="7214760" y="454356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Maltotr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7109280" y="504828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lig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0"/>
          <p:cNvSpPr/>
          <p:nvPr/>
        </p:nvSpPr>
        <p:spPr>
          <a:xfrm>
            <a:off x="324000" y="44280"/>
            <a:ext cx="8351640" cy="62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400"/>
              </a:spcBef>
              <a:spcAft>
                <a:spcPts val="24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Digestión del Almidón y/o del Glucógeno 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(en la bo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14"/>
          <p:cNvGrpSpPr/>
          <p:nvPr/>
        </p:nvGrpSpPr>
        <p:grpSpPr>
          <a:xfrm>
            <a:off x="4788000" y="2565360"/>
            <a:ext cx="2015640" cy="2087640"/>
            <a:chOff x="4788000" y="2565360"/>
            <a:chExt cx="2015640" cy="2087640"/>
          </a:xfrm>
        </p:grpSpPr>
        <p:sp>
          <p:nvSpPr>
            <p:cNvPr id="675" name="Line 11"/>
            <p:cNvSpPr/>
            <p:nvPr/>
          </p:nvSpPr>
          <p:spPr>
            <a:xfrm>
              <a:off x="5221080" y="2565360"/>
              <a:ext cx="718920" cy="1079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2"/>
            <p:cNvSpPr/>
            <p:nvPr/>
          </p:nvSpPr>
          <p:spPr>
            <a:xfrm flipV="1">
              <a:off x="4788000" y="3645000"/>
              <a:ext cx="1152360" cy="1008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5940360" y="3645000"/>
              <a:ext cx="863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 Box 15"/>
          <p:cNvSpPr/>
          <p:nvPr/>
        </p:nvSpPr>
        <p:spPr>
          <a:xfrm>
            <a:off x="5580000" y="2671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milasa salival </a:t>
            </a: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(bo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27"/>
          <p:cNvGrpSpPr/>
          <p:nvPr/>
        </p:nvGrpSpPr>
        <p:grpSpPr>
          <a:xfrm>
            <a:off x="5613120" y="3645000"/>
            <a:ext cx="903600" cy="911880"/>
            <a:chOff x="5613120" y="3645000"/>
            <a:chExt cx="903600" cy="911880"/>
          </a:xfrm>
        </p:grpSpPr>
        <p:sp>
          <p:nvSpPr>
            <p:cNvPr id="680" name="Arc 25"/>
            <p:cNvSpPr/>
            <p:nvPr/>
          </p:nvSpPr>
          <p:spPr>
            <a:xfrm flipH="1">
              <a:off x="6084720" y="3645000"/>
              <a:ext cx="432000" cy="50328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6"/>
            <p:cNvSpPr/>
            <p:nvPr/>
          </p:nvSpPr>
          <p:spPr>
            <a:xfrm>
              <a:off x="5613120" y="4116240"/>
              <a:ext cx="77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n H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Line 17"/>
          <p:cNvSpPr/>
          <p:nvPr/>
        </p:nvSpPr>
        <p:spPr>
          <a:xfrm>
            <a:off x="1500120" y="14288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000680" y="14288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1"/>
          <p:cNvSpPr/>
          <p:nvPr/>
        </p:nvSpPr>
        <p:spPr>
          <a:xfrm>
            <a:off x="1643040" y="50007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"/>
          <p:cNvSpPr/>
          <p:nvPr/>
        </p:nvSpPr>
        <p:spPr>
          <a:xfrm>
            <a:off x="785880" y="39290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1"/>
          <p:cNvSpPr/>
          <p:nvPr/>
        </p:nvSpPr>
        <p:spPr>
          <a:xfrm>
            <a:off x="5572080" y="50007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1"/>
          <p:cNvGrpSpPr/>
          <p:nvPr/>
        </p:nvGrpSpPr>
        <p:grpSpPr>
          <a:xfrm>
            <a:off x="4643280" y="2565360"/>
            <a:ext cx="2368800" cy="2085480"/>
            <a:chOff x="4643280" y="2565360"/>
            <a:chExt cx="2368800" cy="2085480"/>
          </a:xfrm>
        </p:grpSpPr>
        <p:grpSp>
          <p:nvGrpSpPr>
            <p:cNvPr id="688" name="Group 2"/>
            <p:cNvGrpSpPr/>
            <p:nvPr/>
          </p:nvGrpSpPr>
          <p:grpSpPr>
            <a:xfrm>
              <a:off x="4643280" y="2565360"/>
              <a:ext cx="2014200" cy="2085480"/>
              <a:chOff x="4643280" y="2565360"/>
              <a:chExt cx="2014200" cy="2085480"/>
            </a:xfrm>
          </p:grpSpPr>
          <p:sp>
            <p:nvSpPr>
              <p:cNvPr id="689" name="Line 3"/>
              <p:cNvSpPr/>
              <p:nvPr/>
            </p:nvSpPr>
            <p:spPr>
              <a:xfrm>
                <a:off x="5076000" y="2565360"/>
                <a:ext cx="718560" cy="1077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4"/>
              <p:cNvSpPr/>
              <p:nvPr/>
            </p:nvSpPr>
            <p:spPr>
              <a:xfrm flipV="1">
                <a:off x="4643280" y="3641400"/>
                <a:ext cx="1151640" cy="1009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5"/>
              <p:cNvSpPr/>
              <p:nvPr/>
            </p:nvSpPr>
            <p:spPr>
              <a:xfrm>
                <a:off x="5794920" y="3643200"/>
                <a:ext cx="862560" cy="10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Text Box 6"/>
            <p:cNvSpPr/>
            <p:nvPr/>
          </p:nvSpPr>
          <p:spPr>
            <a:xfrm>
              <a:off x="5586120" y="2708280"/>
              <a:ext cx="142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Am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pancreá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7"/>
          <p:cNvGrpSpPr/>
          <p:nvPr/>
        </p:nvGrpSpPr>
        <p:grpSpPr>
          <a:xfrm>
            <a:off x="6886440" y="3286080"/>
            <a:ext cx="2252520" cy="2845800"/>
            <a:chOff x="6886440" y="3286080"/>
            <a:chExt cx="2252520" cy="2845800"/>
          </a:xfrm>
        </p:grpSpPr>
        <p:graphicFrame>
          <p:nvGraphicFramePr>
            <p:cNvPr id="694" name="Object 8"/>
            <p:cNvGraphicFramePr/>
            <p:nvPr/>
          </p:nvGraphicFramePr>
          <p:xfrm>
            <a:off x="6886440" y="3286080"/>
            <a:ext cx="1873440" cy="89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86440" y="3286080"/>
                      <a:ext cx="1873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6" name="Text Box 9"/>
            <p:cNvSpPr/>
            <p:nvPr/>
          </p:nvSpPr>
          <p:spPr>
            <a:xfrm>
              <a:off x="7319880" y="4113360"/>
              <a:ext cx="106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0"/>
            <p:cNvSpPr/>
            <p:nvPr/>
          </p:nvSpPr>
          <p:spPr>
            <a:xfrm>
              <a:off x="7211880" y="4818240"/>
              <a:ext cx="192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Maltotri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Dextrinas lím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70c0"/>
                  </a:solidFill>
                  <a:latin typeface="Times New Roman"/>
                </a:rPr>
                <a:t>Glucosa lib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1"/>
          <p:cNvGrpSpPr/>
          <p:nvPr/>
        </p:nvGrpSpPr>
        <p:grpSpPr>
          <a:xfrm>
            <a:off x="0" y="1052640"/>
            <a:ext cx="5829120" cy="5034960"/>
            <a:chOff x="0" y="1052640"/>
            <a:chExt cx="5829120" cy="5034960"/>
          </a:xfrm>
        </p:grpSpPr>
        <p:graphicFrame>
          <p:nvGraphicFramePr>
            <p:cNvPr id="699" name="Object 12"/>
            <p:cNvGraphicFramePr/>
            <p:nvPr/>
          </p:nvGraphicFramePr>
          <p:xfrm>
            <a:off x="0" y="1052640"/>
            <a:ext cx="5578560" cy="16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0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052640"/>
                      <a:ext cx="5578560" cy="169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1" name="Object 13"/>
            <p:cNvGraphicFramePr/>
            <p:nvPr/>
          </p:nvGraphicFramePr>
          <p:xfrm>
            <a:off x="34560" y="3859560"/>
            <a:ext cx="5794560" cy="22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02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560" y="3859560"/>
                      <a:ext cx="5794560" cy="22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3" name="Text Box 14"/>
            <p:cNvSpPr/>
            <p:nvPr/>
          </p:nvSpPr>
          <p:spPr>
            <a:xfrm>
              <a:off x="606960" y="314064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imes New Roman"/>
                </a:rPr>
                <a:t>Oligosacár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5"/>
          <p:cNvSpPr/>
          <p:nvPr/>
        </p:nvSpPr>
        <p:spPr>
          <a:xfrm>
            <a:off x="1285920" y="163440"/>
            <a:ext cx="683100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Digestión del Almidón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(en int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7"/>
          <p:cNvSpPr/>
          <p:nvPr/>
        </p:nvSpPr>
        <p:spPr>
          <a:xfrm>
            <a:off x="1403280" y="105264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8"/>
          <p:cNvSpPr/>
          <p:nvPr/>
        </p:nvSpPr>
        <p:spPr>
          <a:xfrm>
            <a:off x="4067280" y="1125360"/>
            <a:ext cx="0" cy="72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9"/>
          <p:cNvSpPr/>
          <p:nvPr/>
        </p:nvSpPr>
        <p:spPr>
          <a:xfrm>
            <a:off x="2050920" y="357336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0"/>
          <p:cNvSpPr/>
          <p:nvPr/>
        </p:nvSpPr>
        <p:spPr>
          <a:xfrm>
            <a:off x="4214880" y="478620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1"/>
          <p:cNvSpPr/>
          <p:nvPr/>
        </p:nvSpPr>
        <p:spPr>
          <a:xfrm>
            <a:off x="1619280" y="4724280"/>
            <a:ext cx="0" cy="72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5492520" y="3881520"/>
            <a:ext cx="13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-dextr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3"/>
          <p:cNvSpPr/>
          <p:nvPr/>
        </p:nvSpPr>
        <p:spPr>
          <a:xfrm flipH="1">
            <a:off x="3419280" y="4214880"/>
            <a:ext cx="2081160" cy="6541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16 Elipse"/>
          <p:cNvSpPr/>
          <p:nvPr/>
        </p:nvSpPr>
        <p:spPr>
          <a:xfrm>
            <a:off x="1979640" y="3714840"/>
            <a:ext cx="2143080" cy="25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18 Conector curvado"/>
          <p:cNvCxnSpPr/>
          <p:nvPr/>
        </p:nvCxnSpPr>
        <p:spPr>
          <a:xfrm rot="10800000">
            <a:off x="3923640" y="4214880"/>
            <a:ext cx="3291480" cy="118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4"/>
          <p:cNvSpPr/>
          <p:nvPr/>
        </p:nvSpPr>
        <p:spPr>
          <a:xfrm>
            <a:off x="250920" y="160200"/>
            <a:ext cx="864216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Disacaridasas</a:t>
            </a:r>
            <a:r>
              <a:rPr b="1" lang="es-ES_tradnl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(en intest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46"/>
          <p:cNvGrpSpPr/>
          <p:nvPr/>
        </p:nvGrpSpPr>
        <p:grpSpPr>
          <a:xfrm>
            <a:off x="1114560" y="835200"/>
            <a:ext cx="6410160" cy="1659240"/>
            <a:chOff x="1114560" y="835200"/>
            <a:chExt cx="6410160" cy="1659240"/>
          </a:xfrm>
        </p:grpSpPr>
        <p:grpSp>
          <p:nvGrpSpPr>
            <p:cNvPr id="716" name="Group 33"/>
            <p:cNvGrpSpPr/>
            <p:nvPr/>
          </p:nvGrpSpPr>
          <p:grpSpPr>
            <a:xfrm>
              <a:off x="1114560" y="835200"/>
              <a:ext cx="6410160" cy="1659240"/>
              <a:chOff x="1114560" y="835200"/>
              <a:chExt cx="6410160" cy="1659240"/>
            </a:xfrm>
          </p:grpSpPr>
          <p:graphicFrame>
            <p:nvGraphicFramePr>
              <p:cNvPr id="717" name="Object 5"/>
              <p:cNvGraphicFramePr/>
              <p:nvPr/>
            </p:nvGraphicFramePr>
            <p:xfrm>
              <a:off x="1114560" y="893880"/>
              <a:ext cx="2736720" cy="130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8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4560" y="893880"/>
                        <a:ext cx="2736720" cy="130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9" name="Text Box 6"/>
              <p:cNvSpPr/>
              <p:nvPr/>
            </p:nvSpPr>
            <p:spPr>
              <a:xfrm>
                <a:off x="1959480" y="2095560"/>
                <a:ext cx="99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Mal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7"/>
              <p:cNvSpPr/>
              <p:nvPr/>
            </p:nvSpPr>
            <p:spPr>
              <a:xfrm>
                <a:off x="4067280" y="1555560"/>
                <a:ext cx="15843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8"/>
              <p:cNvSpPr/>
              <p:nvPr/>
            </p:nvSpPr>
            <p:spPr>
              <a:xfrm>
                <a:off x="4419000" y="1065240"/>
                <a:ext cx="137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Mal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22" name="Object 9"/>
              <p:cNvGraphicFramePr/>
              <p:nvPr/>
            </p:nvGraphicFramePr>
            <p:xfrm>
              <a:off x="6100920" y="835200"/>
              <a:ext cx="1423800" cy="1439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23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100920" y="835200"/>
                        <a:ext cx="1423800" cy="143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24" name="Text Box 10"/>
              <p:cNvSpPr/>
              <p:nvPr/>
            </p:nvSpPr>
            <p:spPr>
              <a:xfrm>
                <a:off x="5731920" y="1404720"/>
                <a:ext cx="29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11"/>
              <p:cNvSpPr/>
              <p:nvPr/>
            </p:nvSpPr>
            <p:spPr>
              <a:xfrm>
                <a:off x="6343560" y="202248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37"/>
            <p:cNvGrpSpPr/>
            <p:nvPr/>
          </p:nvGrpSpPr>
          <p:grpSpPr>
            <a:xfrm>
              <a:off x="4227840" y="1430640"/>
              <a:ext cx="796680" cy="840240"/>
              <a:chOff x="4227840" y="1430640"/>
              <a:chExt cx="796680" cy="840240"/>
            </a:xfrm>
          </p:grpSpPr>
          <p:sp>
            <p:nvSpPr>
              <p:cNvPr id="727" name="Arc 35"/>
              <p:cNvSpPr/>
              <p:nvPr/>
            </p:nvSpPr>
            <p:spPr>
              <a:xfrm flipH="1" flipV="1" rot="6966600">
                <a:off x="4499280" y="155556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36"/>
              <p:cNvSpPr/>
              <p:nvPr/>
            </p:nvSpPr>
            <p:spPr>
              <a:xfrm>
                <a:off x="4227840" y="186516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45"/>
          <p:cNvGrpSpPr/>
          <p:nvPr/>
        </p:nvGrpSpPr>
        <p:grpSpPr>
          <a:xfrm>
            <a:off x="971640" y="2759040"/>
            <a:ext cx="7993080" cy="1608480"/>
            <a:chOff x="971640" y="2759040"/>
            <a:chExt cx="7993080" cy="1608480"/>
          </a:xfrm>
        </p:grpSpPr>
        <p:grpSp>
          <p:nvGrpSpPr>
            <p:cNvPr id="730" name="Group 31"/>
            <p:cNvGrpSpPr/>
            <p:nvPr/>
          </p:nvGrpSpPr>
          <p:grpSpPr>
            <a:xfrm>
              <a:off x="971640" y="2759040"/>
              <a:ext cx="7993080" cy="1608480"/>
              <a:chOff x="971640" y="2759040"/>
              <a:chExt cx="7993080" cy="1608480"/>
            </a:xfrm>
          </p:grpSpPr>
          <p:graphicFrame>
            <p:nvGraphicFramePr>
              <p:cNvPr id="731" name="Object 22"/>
              <p:cNvGraphicFramePr/>
              <p:nvPr/>
            </p:nvGraphicFramePr>
            <p:xfrm>
              <a:off x="971640" y="2759040"/>
              <a:ext cx="2819160" cy="1245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2" name="Object 2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71640" y="2759040"/>
                        <a:ext cx="2819160" cy="12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3" name="Text Box 23"/>
              <p:cNvSpPr/>
              <p:nvPr/>
            </p:nvSpPr>
            <p:spPr>
              <a:xfrm>
                <a:off x="1870560" y="386064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Sacar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24"/>
              <p:cNvSpPr/>
              <p:nvPr/>
            </p:nvSpPr>
            <p:spPr>
              <a:xfrm>
                <a:off x="3780000" y="343044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Text Box 25"/>
              <p:cNvSpPr/>
              <p:nvPr/>
            </p:nvSpPr>
            <p:spPr>
              <a:xfrm>
                <a:off x="4002120" y="293976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Sacar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6" name="Object 26"/>
              <p:cNvGraphicFramePr/>
              <p:nvPr/>
            </p:nvGraphicFramePr>
            <p:xfrm>
              <a:off x="5435640" y="2781000"/>
              <a:ext cx="1423800" cy="144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37" name="Object 2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35640" y="278100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8" name="Text Box 27"/>
              <p:cNvSpPr/>
              <p:nvPr/>
            </p:nvSpPr>
            <p:spPr>
              <a:xfrm>
                <a:off x="5678280" y="396864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28"/>
              <p:cNvSpPr/>
              <p:nvPr/>
            </p:nvSpPr>
            <p:spPr>
              <a:xfrm>
                <a:off x="6891480" y="318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40" name="Object 29"/>
              <p:cNvGraphicFramePr/>
              <p:nvPr/>
            </p:nvGraphicFramePr>
            <p:xfrm>
              <a:off x="7164360" y="2997000"/>
              <a:ext cx="1800360" cy="109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41" name="Object 2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64360" y="2997000"/>
                        <a:ext cx="1800360" cy="10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2" name="Text Box 30"/>
              <p:cNvSpPr/>
              <p:nvPr/>
            </p:nvSpPr>
            <p:spPr>
              <a:xfrm>
                <a:off x="7422480" y="396864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Fru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38"/>
            <p:cNvGrpSpPr/>
            <p:nvPr/>
          </p:nvGrpSpPr>
          <p:grpSpPr>
            <a:xfrm>
              <a:off x="4246920" y="3304080"/>
              <a:ext cx="796680" cy="840240"/>
              <a:chOff x="4246920" y="3304080"/>
              <a:chExt cx="796680" cy="840240"/>
            </a:xfrm>
          </p:grpSpPr>
          <p:sp>
            <p:nvSpPr>
              <p:cNvPr id="744" name="Arc 39"/>
              <p:cNvSpPr/>
              <p:nvPr/>
            </p:nvSpPr>
            <p:spPr>
              <a:xfrm flipH="1" flipV="1" rot="6966600">
                <a:off x="4518360" y="342900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4246920" y="373860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44"/>
          <p:cNvGrpSpPr/>
          <p:nvPr/>
        </p:nvGrpSpPr>
        <p:grpSpPr>
          <a:xfrm>
            <a:off x="1116000" y="4508640"/>
            <a:ext cx="7559640" cy="1586160"/>
            <a:chOff x="1116000" y="4508640"/>
            <a:chExt cx="7559640" cy="1586160"/>
          </a:xfrm>
        </p:grpSpPr>
        <p:grpSp>
          <p:nvGrpSpPr>
            <p:cNvPr id="747" name="Group 32"/>
            <p:cNvGrpSpPr/>
            <p:nvPr/>
          </p:nvGrpSpPr>
          <p:grpSpPr>
            <a:xfrm>
              <a:off x="1116000" y="4508640"/>
              <a:ext cx="7559640" cy="1586160"/>
              <a:chOff x="1116000" y="4508640"/>
              <a:chExt cx="7559640" cy="1586160"/>
            </a:xfrm>
          </p:grpSpPr>
          <p:graphicFrame>
            <p:nvGraphicFramePr>
              <p:cNvPr id="748" name="Object 12"/>
              <p:cNvGraphicFramePr/>
              <p:nvPr/>
            </p:nvGraphicFramePr>
            <p:xfrm>
              <a:off x="1116000" y="4581720"/>
              <a:ext cx="2497320" cy="1193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49" name="Object 1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116000" y="4581720"/>
                        <a:ext cx="249732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0" name="Text Box 13"/>
              <p:cNvSpPr/>
              <p:nvPr/>
            </p:nvSpPr>
            <p:spPr>
              <a:xfrm>
                <a:off x="1864440" y="5695920"/>
                <a:ext cx="97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14"/>
              <p:cNvSpPr/>
              <p:nvPr/>
            </p:nvSpPr>
            <p:spPr>
              <a:xfrm>
                <a:off x="3780000" y="5158080"/>
                <a:ext cx="1584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15"/>
              <p:cNvSpPr/>
              <p:nvPr/>
            </p:nvSpPr>
            <p:spPr>
              <a:xfrm>
                <a:off x="4129920" y="4667400"/>
                <a:ext cx="128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ff0000"/>
                    </a:solidFill>
                    <a:latin typeface="Calibri"/>
                  </a:rPr>
                  <a:t>Lact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53" name="Object 16"/>
              <p:cNvGraphicFramePr/>
              <p:nvPr/>
            </p:nvGraphicFramePr>
            <p:xfrm>
              <a:off x="5435640" y="4508640"/>
              <a:ext cx="1423800" cy="144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54" name="Object 1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5640" y="4508640"/>
                        <a:ext cx="1423800" cy="144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5" name="Text Box 18"/>
              <p:cNvSpPr/>
              <p:nvPr/>
            </p:nvSpPr>
            <p:spPr>
              <a:xfrm>
                <a:off x="5678280" y="5695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luc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Text Box 19"/>
              <p:cNvSpPr/>
              <p:nvPr/>
            </p:nvSpPr>
            <p:spPr>
              <a:xfrm>
                <a:off x="6891480" y="491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57" name="Object 20"/>
              <p:cNvGraphicFramePr/>
              <p:nvPr/>
            </p:nvGraphicFramePr>
            <p:xfrm>
              <a:off x="7236000" y="4532400"/>
              <a:ext cx="1439640" cy="1273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758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236000" y="4532400"/>
                        <a:ext cx="1439640" cy="12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59" name="Text Box 21"/>
              <p:cNvSpPr/>
              <p:nvPr/>
            </p:nvSpPr>
            <p:spPr>
              <a:xfrm>
                <a:off x="7344000" y="569592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99"/>
                    </a:solidFill>
                    <a:latin typeface="Times New Roman"/>
                  </a:rPr>
                  <a:t>Galacto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41"/>
            <p:cNvGrpSpPr/>
            <p:nvPr/>
          </p:nvGrpSpPr>
          <p:grpSpPr>
            <a:xfrm>
              <a:off x="4154760" y="5031000"/>
              <a:ext cx="796680" cy="840240"/>
              <a:chOff x="4154760" y="5031000"/>
              <a:chExt cx="796680" cy="840240"/>
            </a:xfrm>
          </p:grpSpPr>
          <p:sp>
            <p:nvSpPr>
              <p:cNvPr id="761" name="Arc 42"/>
              <p:cNvSpPr/>
              <p:nvPr/>
            </p:nvSpPr>
            <p:spPr>
              <a:xfrm flipH="1" flipV="1" rot="6966600">
                <a:off x="4426200" y="5155920"/>
                <a:ext cx="504720" cy="360360"/>
              </a:xfrm>
              <a:custGeom>
                <a:avLst/>
                <a:gdLst>
                  <a:gd name="textAreaLeft" fmla="*/ 360 w 504720"/>
                  <a:gd name="textAreaRight" fmla="*/ 505440 w 50472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43"/>
              <p:cNvSpPr/>
              <p:nvPr/>
            </p:nvSpPr>
            <p:spPr>
              <a:xfrm>
                <a:off x="4154760" y="5465520"/>
                <a:ext cx="54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r>
                  <a:rPr b="0" lang="es-ES_tradnl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3" name=""/>
          <p:cNvGraphicFramePr/>
          <p:nvPr/>
        </p:nvGraphicFramePr>
        <p:xfrm>
          <a:off x="857160" y="714240"/>
          <a:ext cx="7715520" cy="5911920"/>
        </p:xfrm>
        <a:graphic>
          <a:graphicData uri="http://schemas.openxmlformats.org/drawingml/2006/table">
            <a:tbl>
              <a:tblPr/>
              <a:tblGrid>
                <a:gridCol w="1916280"/>
                <a:gridCol w="1798560"/>
                <a:gridCol w="4000680"/>
              </a:tblGrid>
              <a:tr h="828720">
                <a:tc gridSpan="3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gestión de Carbohidra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tracto gastrointest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16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amilasa sal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ptialin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ción muy breve: se inactiva al pH ácido del estóm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060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milasa pancre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uo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disacárido maltosa, maltotriosa, dextrinas lím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785880" y="857160"/>
          <a:ext cx="7786800" cy="5270760"/>
        </p:xfrm>
        <a:graphic>
          <a:graphicData uri="http://schemas.openxmlformats.org/drawingml/2006/table">
            <a:tbl>
              <a:tblPr/>
              <a:tblGrid>
                <a:gridCol w="1014480"/>
                <a:gridCol w="1014120"/>
                <a:gridCol w="2028960"/>
                <a:gridCol w="3729240"/>
              </a:tblGrid>
              <a:tr h="631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z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c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S: sustrato - P: product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-1,6-glicosid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dextrin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ó isomalt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doamila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polisacáridos almidón y gluc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: glucosas lib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6-glicosídica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acari-d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Mal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estino delg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membrana célu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orde en cepillo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cosa intestin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Maltosa, P: Gluc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Sacar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Sacarosa, P: Glucosa y Fru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2-,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,1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Lact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:  Lactosa, P: Glucosa y Galacto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droliza uniones 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,4-glicosí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1812960" y="37944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de los Hidratos de Carbono (H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7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2" descr="http://www3.gobiernodecanarias.org/medusa/ecoescuela/recursoseducativos/files/2011/02/Intestino.jpg"/>
          <p:cNvPicPr/>
          <p:nvPr/>
        </p:nvPicPr>
        <p:blipFill>
          <a:blip r:embed="rId1"/>
          <a:stretch/>
        </p:blipFill>
        <p:spPr>
          <a:xfrm>
            <a:off x="193680" y="0"/>
            <a:ext cx="3592440" cy="25146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" descr="http://image.slidesharecdn.com/sndromedemalabsorcinintestinal-131102002441-phpapp02/95/sndrome-de-malabsorcin-intestinal-4-638.jpg?cb=1383351899"/>
          <p:cNvPicPr/>
          <p:nvPr/>
        </p:nvPicPr>
        <p:blipFill>
          <a:blip r:embed="rId2"/>
          <a:stretch/>
        </p:blipFill>
        <p:spPr>
          <a:xfrm>
            <a:off x="2643120" y="2455920"/>
            <a:ext cx="6434280" cy="4830840"/>
          </a:xfrm>
          <a:prstGeom prst="rect">
            <a:avLst/>
          </a:prstGeom>
          <a:ln w="0">
            <a:noFill/>
          </a:ln>
        </p:spPr>
      </p:pic>
      <p:sp>
        <p:nvSpPr>
          <p:cNvPr id="774" name="3 CuadroTexto"/>
          <p:cNvSpPr/>
          <p:nvPr/>
        </p:nvSpPr>
        <p:spPr>
          <a:xfrm>
            <a:off x="3714840" y="71280"/>
            <a:ext cx="5286240" cy="137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BSORCIÓN DE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Principal ór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INTESTINO DELGADO-MUCOSA INTESTINAL 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9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Cómo se absorben los monosacáridos productos de la digest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2 CuadroTexto"/>
          <p:cNvSpPr/>
          <p:nvPr/>
        </p:nvSpPr>
        <p:spPr>
          <a:xfrm>
            <a:off x="6684480" y="192888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Record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3 CuadroTexto"/>
          <p:cNvSpPr/>
          <p:nvPr/>
        </p:nvSpPr>
        <p:spPr>
          <a:xfrm>
            <a:off x="451080" y="2500200"/>
            <a:ext cx="7724520" cy="1373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CESOS DE TRANSPORTE DE SOL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A TRAVÉS DE MEMBRANAS BI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TRANSPORTE A TRAVÉS DE MEMBRANAS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según la presencia de transport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179280" y="2060640"/>
            <a:ext cx="30974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b050"/>
                </a:solidFill>
                <a:latin typeface="Calibri"/>
              </a:rPr>
              <a:t>PROCESO N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SI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(DIFUSIÓN PAS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6"/>
          <p:cNvSpPr/>
          <p:nvPr/>
        </p:nvSpPr>
        <p:spPr>
          <a:xfrm>
            <a:off x="179280" y="4941720"/>
            <a:ext cx="302436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alibri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ON TRANSPOR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3851280" y="1617840"/>
            <a:ext cx="52927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o requiere transpor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favor de gradien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 través de p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ones, gases, agua,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0"/>
          <p:cNvSpPr/>
          <p:nvPr/>
        </p:nvSpPr>
        <p:spPr>
          <a:xfrm>
            <a:off x="3419640" y="1341360"/>
            <a:ext cx="647640" cy="2808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1"/>
          <p:cNvSpPr/>
          <p:nvPr/>
        </p:nvSpPr>
        <p:spPr>
          <a:xfrm>
            <a:off x="3747960" y="50562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ifusión Facilitada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: a favor de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e Activo: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contra Gra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2"/>
          <p:cNvSpPr/>
          <p:nvPr/>
        </p:nvSpPr>
        <p:spPr>
          <a:xfrm>
            <a:off x="3276720" y="4292640"/>
            <a:ext cx="718920" cy="2565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3357720" y="2075040"/>
            <a:ext cx="5798880" cy="3925800"/>
          </a:xfrm>
          <a:prstGeom prst="rect">
            <a:avLst/>
          </a:prstGeom>
          <a:ln w="0">
            <a:noFill/>
          </a:ln>
        </p:spPr>
      </p:pic>
      <p:sp>
        <p:nvSpPr>
          <p:cNvPr id="786" name="21 CuadroTexto"/>
          <p:cNvSpPr/>
          <p:nvPr/>
        </p:nvSpPr>
        <p:spPr>
          <a:xfrm>
            <a:off x="5143680" y="63039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Adaptado de Lehninger A. L., 4ª Edic. Cap 11 , 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4 CuadroTexto"/>
          <p:cNvSpPr/>
          <p:nvPr/>
        </p:nvSpPr>
        <p:spPr>
          <a:xfrm>
            <a:off x="298080" y="285840"/>
            <a:ext cx="41929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Transpor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-número de solutos trans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-dirección d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807200" y="37944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714240" y="423396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Utilización de los nutrientes para obtención de energía y/o para la síntesis de compuestos celulares</a:t>
            </a:r>
            <a:r>
              <a:rPr b="1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571680" y="157176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Digestión</a:t>
            </a:r>
            <a:r>
              <a:rPr b="1" i="1" lang="es-ES_tradnl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Conversión de los alimentos en sustancias absorbibles en el tracto intestinal. Implica el desdoblamiento, mecánico y químico de los alimentos, en moléculas absorb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Arial"/>
              </a:rPr>
              <a:t>Moléculas complejas son escindidas en sustancias más simples, que el organismo pueda incorporar y utili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5 CuadroTexto"/>
          <p:cNvSpPr/>
          <p:nvPr/>
        </p:nvSpPr>
        <p:spPr>
          <a:xfrm>
            <a:off x="642960" y="329724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Absorción de nutrientes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asaje del producto de la digestión desde la luz intestinal a la circ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Oval 4"/>
          <p:cNvSpPr/>
          <p:nvPr/>
        </p:nvSpPr>
        <p:spPr>
          <a:xfrm>
            <a:off x="39600" y="4566600"/>
            <a:ext cx="438948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E 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149400" y="1841760"/>
            <a:ext cx="3708360" cy="1717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DIFUSIÓN FACIL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4500720" y="4429080"/>
            <a:ext cx="4643280" cy="230364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ende 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ergí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etabólica (A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3924360" y="1643040"/>
            <a:ext cx="5219640" cy="1937880"/>
          </a:xfrm>
          <a:prstGeom prst="rect">
            <a:avLst/>
          </a:prstGeom>
          <a:solidFill>
            <a:srgbClr val="b7dee8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efect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 fav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gradiente de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necesita energía meta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bidirec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6 CuadroTexto"/>
          <p:cNvSpPr/>
          <p:nvPr/>
        </p:nvSpPr>
        <p:spPr>
          <a:xfrm>
            <a:off x="270360" y="0"/>
            <a:ext cx="3753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Transportador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lases generales segú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l gasto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643720" cy="3595680"/>
          </a:xfrm>
          <a:prstGeom prst="rect">
            <a:avLst/>
          </a:prstGeom>
          <a:ln w="0">
            <a:noFill/>
          </a:ln>
        </p:spPr>
      </p:pic>
      <p:sp>
        <p:nvSpPr>
          <p:cNvPr id="794" name="4 CuadroTexto"/>
          <p:cNvSpPr/>
          <p:nvPr/>
        </p:nvSpPr>
        <p:spPr>
          <a:xfrm>
            <a:off x="0" y="142920"/>
            <a:ext cx="8354880" cy="77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CESO MED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Arial"/>
              </a:rPr>
              <a:t>Transport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las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Prim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La energía de hidrólisis de ATP impul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l transporte del Soluto contra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b) </a:t>
            </a: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Transporte Activo Secund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Se establece un gradiente de un ión (X)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nsporte contra gradiente (Activo Primar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El movimiento del ión a favor de su gradiente, da la ener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ara el transporte de un segundo Soluto (S) contra su gra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5" descr=""/>
          <p:cNvPicPr/>
          <p:nvPr/>
        </p:nvPicPr>
        <p:blipFill>
          <a:blip r:embed="rId1"/>
          <a:stretch/>
        </p:blipFill>
        <p:spPr>
          <a:xfrm>
            <a:off x="1143000" y="428760"/>
            <a:ext cx="7128000" cy="6218280"/>
          </a:xfrm>
          <a:prstGeom prst="rect">
            <a:avLst/>
          </a:prstGeom>
          <a:ln w="47520">
            <a:solidFill>
              <a:srgbClr val="0000ff"/>
            </a:solidFill>
            <a:miter/>
          </a:ln>
        </p:spPr>
      </p:pic>
      <p:sp>
        <p:nvSpPr>
          <p:cNvPr id="796" name="Text Box 6"/>
          <p:cNvSpPr/>
          <p:nvPr/>
        </p:nvSpPr>
        <p:spPr>
          <a:xfrm>
            <a:off x="1486080" y="5178600"/>
            <a:ext cx="1800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G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979920" y="35002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8"/>
          <p:cNvSpPr/>
          <p:nvPr/>
        </p:nvSpPr>
        <p:spPr>
          <a:xfrm>
            <a:off x="7101360" y="4146480"/>
            <a:ext cx="129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944640" y="397188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1"/>
          <p:cNvSpPr/>
          <p:nvPr/>
        </p:nvSpPr>
        <p:spPr>
          <a:xfrm>
            <a:off x="7137360" y="44355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1455840" y="148428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4"/>
          <p:cNvSpPr/>
          <p:nvPr/>
        </p:nvSpPr>
        <p:spPr>
          <a:xfrm>
            <a:off x="1979640" y="1928880"/>
            <a:ext cx="504720" cy="36036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862080" y="1171440"/>
            <a:ext cx="1002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GLUT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6"/>
          <p:cNvSpPr/>
          <p:nvPr/>
        </p:nvSpPr>
        <p:spPr>
          <a:xfrm>
            <a:off x="4570560" y="1568520"/>
            <a:ext cx="433080" cy="43164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7"/>
          <p:cNvSpPr/>
          <p:nvPr/>
        </p:nvSpPr>
        <p:spPr>
          <a:xfrm>
            <a:off x="3276720" y="1700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8"/>
          <p:cNvSpPr/>
          <p:nvPr/>
        </p:nvSpPr>
        <p:spPr>
          <a:xfrm>
            <a:off x="2843280" y="1484280"/>
            <a:ext cx="504720" cy="432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9"/>
          <p:cNvSpPr/>
          <p:nvPr/>
        </p:nvSpPr>
        <p:spPr>
          <a:xfrm>
            <a:off x="5292720" y="1700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5867280" y="1557360"/>
            <a:ext cx="576360" cy="43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6537600" y="1482840"/>
            <a:ext cx="1366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4"/>
          <p:cNvSpPr/>
          <p:nvPr/>
        </p:nvSpPr>
        <p:spPr>
          <a:xfrm>
            <a:off x="6445080" y="1414440"/>
            <a:ext cx="165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5"/>
          <p:cNvSpPr/>
          <p:nvPr/>
        </p:nvSpPr>
        <p:spPr>
          <a:xfrm>
            <a:off x="7020000" y="4076640"/>
            <a:ext cx="187308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6"/>
          <p:cNvSpPr/>
          <p:nvPr/>
        </p:nvSpPr>
        <p:spPr>
          <a:xfrm>
            <a:off x="1403280" y="8445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uz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7"/>
          <p:cNvSpPr/>
          <p:nvPr/>
        </p:nvSpPr>
        <p:spPr>
          <a:xfrm>
            <a:off x="1229040" y="2872080"/>
            <a:ext cx="118044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9"/>
          <p:cNvSpPr/>
          <p:nvPr/>
        </p:nvSpPr>
        <p:spPr>
          <a:xfrm flipV="1">
            <a:off x="2484360" y="4149720"/>
            <a:ext cx="574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30"/>
          <p:cNvSpPr/>
          <p:nvPr/>
        </p:nvSpPr>
        <p:spPr>
          <a:xfrm>
            <a:off x="7020000" y="2814480"/>
            <a:ext cx="1297080" cy="649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 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31"/>
          <p:cNvSpPr/>
          <p:nvPr/>
        </p:nvSpPr>
        <p:spPr>
          <a:xfrm>
            <a:off x="6929280" y="2256120"/>
            <a:ext cx="919440" cy="6498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2 K</a:t>
            </a:r>
            <a:r>
              <a:rPr b="0" lang="es-ES_tradnl" sz="2400" spc="-1" strike="noStrike" baseline="30000">
                <a:solidFill>
                  <a:srgbClr val="000099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2"/>
          <p:cNvSpPr/>
          <p:nvPr/>
        </p:nvSpPr>
        <p:spPr>
          <a:xfrm>
            <a:off x="4788000" y="3500280"/>
            <a:ext cx="1871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3"/>
          <p:cNvSpPr/>
          <p:nvPr/>
        </p:nvSpPr>
        <p:spPr>
          <a:xfrm>
            <a:off x="6072120" y="4929120"/>
            <a:ext cx="180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4"/>
          <p:cNvSpPr/>
          <p:nvPr/>
        </p:nvSpPr>
        <p:spPr>
          <a:xfrm>
            <a:off x="6227640" y="4365720"/>
            <a:ext cx="720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35"/>
          <p:cNvSpPr/>
          <p:nvPr/>
        </p:nvSpPr>
        <p:spPr>
          <a:xfrm>
            <a:off x="6516720" y="361944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Na</a:t>
            </a:r>
            <a:r>
              <a:rPr b="1" i="1" lang="es-ES_tradnl" sz="24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i="1" lang="es-ES_tradnl" sz="24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6"/>
          <p:cNvSpPr/>
          <p:nvPr/>
        </p:nvSpPr>
        <p:spPr>
          <a:xfrm>
            <a:off x="6300720" y="3645000"/>
            <a:ext cx="28728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37"/>
          <p:cNvSpPr/>
          <p:nvPr/>
        </p:nvSpPr>
        <p:spPr>
          <a:xfrm>
            <a:off x="2124000" y="4437000"/>
            <a:ext cx="647640" cy="433440"/>
          </a:xfrm>
          <a:prstGeom prst="hexagon">
            <a:avLst>
              <a:gd name="adj" fmla="val 37355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8"/>
          <p:cNvSpPr/>
          <p:nvPr/>
        </p:nvSpPr>
        <p:spPr>
          <a:xfrm>
            <a:off x="4859280" y="4000680"/>
            <a:ext cx="647640" cy="433080"/>
          </a:xfrm>
          <a:prstGeom prst="hexagon">
            <a:avLst>
              <a:gd name="adj" fmla="val 37386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39"/>
          <p:cNvSpPr/>
          <p:nvPr/>
        </p:nvSpPr>
        <p:spPr>
          <a:xfrm>
            <a:off x="5580000" y="4221000"/>
            <a:ext cx="11527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0"/>
          <p:cNvSpPr/>
          <p:nvPr/>
        </p:nvSpPr>
        <p:spPr>
          <a:xfrm flipH="1">
            <a:off x="3348000" y="1341360"/>
            <a:ext cx="43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41"/>
          <p:cNvSpPr/>
          <p:nvPr/>
        </p:nvSpPr>
        <p:spPr>
          <a:xfrm>
            <a:off x="4932360" y="1341360"/>
            <a:ext cx="792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42"/>
          <p:cNvSpPr/>
          <p:nvPr/>
        </p:nvSpPr>
        <p:spPr>
          <a:xfrm>
            <a:off x="8096040" y="2636640"/>
            <a:ext cx="936720" cy="649800"/>
          </a:xfrm>
          <a:prstGeom prst="ellipse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3"/>
          <p:cNvSpPr/>
          <p:nvPr/>
        </p:nvSpPr>
        <p:spPr>
          <a:xfrm>
            <a:off x="8532720" y="3213000"/>
            <a:ext cx="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1 CuadroTexto"/>
          <p:cNvSpPr/>
          <p:nvPr/>
        </p:nvSpPr>
        <p:spPr>
          <a:xfrm>
            <a:off x="369360" y="1428840"/>
            <a:ext cx="105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i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facil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2 CuadroTexto"/>
          <p:cNvSpPr/>
          <p:nvPr/>
        </p:nvSpPr>
        <p:spPr>
          <a:xfrm>
            <a:off x="1560240" y="5657760"/>
            <a:ext cx="2108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Transport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Activ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dependiente de N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39 CuadroTexto"/>
          <p:cNvSpPr/>
          <p:nvPr/>
        </p:nvSpPr>
        <p:spPr>
          <a:xfrm>
            <a:off x="6217920" y="785880"/>
            <a:ext cx="81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"/>
          <p:cNvSpPr/>
          <p:nvPr/>
        </p:nvSpPr>
        <p:spPr>
          <a:xfrm>
            <a:off x="866880" y="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¿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ó</a:t>
            </a:r>
            <a:r>
              <a:rPr b="1" lang="es-ES" sz="2000" spc="-1" strike="noStrike">
                <a:solidFill>
                  <a:srgbClr val="c00000"/>
                </a:solidFill>
                <a:latin typeface="Comic Sans MS"/>
              </a:rPr>
              <a:t>mo se absorben las unidades de monosacári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42 CuadroTexto"/>
          <p:cNvSpPr/>
          <p:nvPr/>
        </p:nvSpPr>
        <p:spPr>
          <a:xfrm>
            <a:off x="6005880" y="5572080"/>
            <a:ext cx="209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43 CuadroTexto"/>
          <p:cNvSpPr/>
          <p:nvPr/>
        </p:nvSpPr>
        <p:spPr>
          <a:xfrm>
            <a:off x="6005880" y="5429160"/>
            <a:ext cx="209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Difusión facili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4645080" y="6330960"/>
            <a:ext cx="29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traída y modificada del Lehninger, 4a. 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7 Imagen" descr="ingreso glucos a la célula.jpg"/>
          <p:cNvPicPr/>
          <p:nvPr/>
        </p:nvPicPr>
        <p:blipFill>
          <a:blip r:embed="rId1"/>
          <a:stretch/>
        </p:blipFill>
        <p:spPr>
          <a:xfrm>
            <a:off x="714240" y="1285920"/>
            <a:ext cx="6858000" cy="4857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7" name="2 CuadroTexto"/>
          <p:cNvSpPr/>
          <p:nvPr/>
        </p:nvSpPr>
        <p:spPr>
          <a:xfrm>
            <a:off x="1245600" y="285840"/>
            <a:ext cx="55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Representación esquemática del mecanism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o-transporte Na</a:t>
            </a:r>
            <a:r>
              <a:rPr b="1" lang="es-AR" sz="1800" spc="-1" strike="noStrike" baseline="30000">
                <a:solidFill>
                  <a:srgbClr val="c00000"/>
                </a:solidFill>
                <a:latin typeface="Arial"/>
              </a:rPr>
              <a:t>+</a:t>
            </a: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/glucosa en el epitelio intest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3 CuadroTexto"/>
          <p:cNvSpPr/>
          <p:nvPr/>
        </p:nvSpPr>
        <p:spPr>
          <a:xfrm>
            <a:off x="5450040" y="6286680"/>
            <a:ext cx="305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(GuíaTP Qca. Biológica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Una vez en la sangre, la Glucosa es distribu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a los distintos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Ingresa a las células por difusión facilitada utilizando diferentes transportadores GL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  <a:ea typeface="Arial"/>
              </a:rPr>
              <a:t>GLUT: familia de proteínas integrales de membrana, hay descriptos 14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11"/>
          <p:cNvSpPr/>
          <p:nvPr/>
        </p:nvSpPr>
        <p:spPr>
          <a:xfrm>
            <a:off x="250920" y="160200"/>
            <a:ext cx="8569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Calibri"/>
              </a:rPr>
              <a:t>Transportadores de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6"/>
          <p:cNvSpPr/>
          <p:nvPr/>
        </p:nvSpPr>
        <p:spPr>
          <a:xfrm>
            <a:off x="3822840" y="610704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ransportador de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Fru en entero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"/>
          <p:cNvSpPr/>
          <p:nvPr/>
        </p:nvSpPr>
        <p:spPr>
          <a:xfrm>
            <a:off x="468360" y="60562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GLU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4"/>
          <p:cNvSpPr/>
          <p:nvPr/>
        </p:nvSpPr>
        <p:spPr>
          <a:xfrm>
            <a:off x="3822840" y="4867200"/>
            <a:ext cx="4927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Tej.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Adiposo y músculo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squelético y cardía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00000"/>
                </a:solidFill>
                <a:latin typeface="Calibri"/>
              </a:rPr>
              <a:t>Es sensible a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3"/>
          <p:cNvSpPr/>
          <p:nvPr/>
        </p:nvSpPr>
        <p:spPr>
          <a:xfrm>
            <a:off x="468360" y="4867200"/>
            <a:ext cx="33544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LU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2"/>
          <p:cNvSpPr/>
          <p:nvPr/>
        </p:nvSpPr>
        <p:spPr>
          <a:xfrm>
            <a:off x="3822840" y="4065480"/>
            <a:ext cx="4927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Ppal. Transportador en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erebro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y nervios perifé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468360" y="4065480"/>
            <a:ext cx="33544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GLU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3822840" y="2533680"/>
            <a:ext cx="49273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membrana basolateral del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epitelio intestinal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, túbulos renales,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hepatocitos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 y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células </a:t>
            </a:r>
            <a:r>
              <a:rPr b="0" lang="el-GR" sz="2400" spc="-1" strike="noStrike">
                <a:solidFill>
                  <a:srgbClr val="c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pancreá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68360" y="2533680"/>
            <a:ext cx="335448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GLU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3822840" y="1214280"/>
            <a:ext cx="492732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</a:t>
            </a:r>
            <a:r>
              <a:rPr b="0" lang="es-ES_tradnl" sz="2400" spc="-1" strike="noStrike">
                <a:solidFill>
                  <a:srgbClr val="c00000"/>
                </a:solidFill>
                <a:latin typeface="Calibri"/>
              </a:rPr>
              <a:t>todos los tejidos </a:t>
            </a: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del f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alibri"/>
              </a:rPr>
              <a:t>En adultos: en GR, fibroblastos y células endotel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7"/>
          <p:cNvSpPr/>
          <p:nvPr/>
        </p:nvSpPr>
        <p:spPr>
          <a:xfrm>
            <a:off x="468360" y="1071720"/>
            <a:ext cx="335448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GLU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9"/>
          <p:cNvSpPr/>
          <p:nvPr/>
        </p:nvSpPr>
        <p:spPr>
          <a:xfrm>
            <a:off x="468360" y="105264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2"/>
          <p:cNvSpPr/>
          <p:nvPr/>
        </p:nvSpPr>
        <p:spPr>
          <a:xfrm>
            <a:off x="468360" y="406548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33"/>
          <p:cNvSpPr/>
          <p:nvPr/>
        </p:nvSpPr>
        <p:spPr>
          <a:xfrm>
            <a:off x="468360" y="486720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34"/>
          <p:cNvSpPr/>
          <p:nvPr/>
        </p:nvSpPr>
        <p:spPr>
          <a:xfrm>
            <a:off x="468360" y="610704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6"/>
          <p:cNvSpPr/>
          <p:nvPr/>
        </p:nvSpPr>
        <p:spPr>
          <a:xfrm>
            <a:off x="468360" y="6885000"/>
            <a:ext cx="8281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7"/>
          <p:cNvSpPr/>
          <p:nvPr/>
        </p:nvSpPr>
        <p:spPr>
          <a:xfrm>
            <a:off x="468360" y="981000"/>
            <a:ext cx="0" cy="5904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38"/>
          <p:cNvSpPr/>
          <p:nvPr/>
        </p:nvSpPr>
        <p:spPr>
          <a:xfrm>
            <a:off x="3851280" y="1052640"/>
            <a:ext cx="0" cy="58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39"/>
          <p:cNvSpPr/>
          <p:nvPr/>
        </p:nvSpPr>
        <p:spPr>
          <a:xfrm>
            <a:off x="8748720" y="1052640"/>
            <a:ext cx="0" cy="5805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8"/>
          <p:cNvSpPr/>
          <p:nvPr/>
        </p:nvSpPr>
        <p:spPr>
          <a:xfrm>
            <a:off x="577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98"/>
          <p:cNvSpPr/>
          <p:nvPr/>
        </p:nvSpPr>
        <p:spPr>
          <a:xfrm>
            <a:off x="468360" y="2565360"/>
            <a:ext cx="828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6158160" cy="6022800"/>
          </a:xfrm>
          <a:prstGeom prst="rect">
            <a:avLst/>
          </a:prstGeom>
          <a:ln w="0">
            <a:noFill/>
          </a:ln>
        </p:spPr>
      </p:pic>
      <p:sp>
        <p:nvSpPr>
          <p:cNvPr id="862" name="2 CuadroTexto"/>
          <p:cNvSpPr/>
          <p:nvPr/>
        </p:nvSpPr>
        <p:spPr>
          <a:xfrm>
            <a:off x="3219480" y="2286000"/>
            <a:ext cx="79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"/>
              </a:rPr>
              <a:t>-amila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3 Rectángulo redondeado"/>
          <p:cNvSpPr/>
          <p:nvPr/>
        </p:nvSpPr>
        <p:spPr>
          <a:xfrm>
            <a:off x="3214800" y="2286000"/>
            <a:ext cx="7858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8 Rectángulo redondeado"/>
          <p:cNvSpPr/>
          <p:nvPr/>
        </p:nvSpPr>
        <p:spPr>
          <a:xfrm>
            <a:off x="5214960" y="42861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9 Rectángulo redondeado"/>
          <p:cNvSpPr/>
          <p:nvPr/>
        </p:nvSpPr>
        <p:spPr>
          <a:xfrm>
            <a:off x="4071960" y="4286160"/>
            <a:ext cx="10717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10 Rectángulo redondeado"/>
          <p:cNvSpPr/>
          <p:nvPr/>
        </p:nvSpPr>
        <p:spPr>
          <a:xfrm>
            <a:off x="2857680" y="4500720"/>
            <a:ext cx="92844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12 Rectángulo redondeado"/>
          <p:cNvSpPr/>
          <p:nvPr/>
        </p:nvSpPr>
        <p:spPr>
          <a:xfrm>
            <a:off x="6000840" y="42861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13 CuadroTexto"/>
          <p:cNvSpPr/>
          <p:nvPr/>
        </p:nvSpPr>
        <p:spPr>
          <a:xfrm>
            <a:off x="714240" y="71280"/>
            <a:ext cx="8001000" cy="3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Esquema general de la digestión de Hidrat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14 Rectángulo redondeado"/>
          <p:cNvSpPr/>
          <p:nvPr/>
        </p:nvSpPr>
        <p:spPr>
          <a:xfrm>
            <a:off x="1785960" y="2071800"/>
            <a:ext cx="10717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15 Rectángulo redondeado"/>
          <p:cNvSpPr/>
          <p:nvPr/>
        </p:nvSpPr>
        <p:spPr>
          <a:xfrm>
            <a:off x="1785960" y="5143680"/>
            <a:ext cx="9288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16 Rectángulo redondeado"/>
          <p:cNvSpPr/>
          <p:nvPr/>
        </p:nvSpPr>
        <p:spPr>
          <a:xfrm>
            <a:off x="1785960" y="3786120"/>
            <a:ext cx="92880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17 Rectángulo redondeado"/>
          <p:cNvSpPr/>
          <p:nvPr/>
        </p:nvSpPr>
        <p:spPr>
          <a:xfrm>
            <a:off x="3000240" y="5715000"/>
            <a:ext cx="41436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18 CuadroTexto"/>
          <p:cNvSpPr/>
          <p:nvPr/>
        </p:nvSpPr>
        <p:spPr>
          <a:xfrm>
            <a:off x="7148160" y="6429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Resumiendo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2"/>
          <p:cNvSpPr/>
          <p:nvPr/>
        </p:nvSpPr>
        <p:spPr>
          <a:xfrm>
            <a:off x="1807560" y="379440"/>
            <a:ext cx="52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Carbohidratos 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CH en sustancias absorbibles en el tracto intestinal: desdoblamiento mecánico y químico de los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9 CuadroTexto"/>
          <p:cNvSpPr/>
          <p:nvPr/>
        </p:nvSpPr>
        <p:spPr>
          <a:xfrm>
            <a:off x="7049520" y="14292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66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8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Vía de degradación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catabólica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anaeróbica de la glucosa, fructosa, galactosa hasta piruva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= 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Vía de síntesis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nabólica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Vía </a:t>
            </a: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nabólica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 de conversión de glucosa en gluc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Vía </a:t>
            </a: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catabólica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 del glucógeno para producir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8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30280" y="11592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de los Hidratos de Carbono (H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4 CuadroTexto"/>
          <p:cNvSpPr/>
          <p:nvPr/>
        </p:nvSpPr>
        <p:spPr>
          <a:xfrm>
            <a:off x="571680" y="134136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Hidratos de Carb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HC en sustancias absorbibles en el tracto intestinal: desdoblamiento mecánico y químico de los 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que son los </a:t>
            </a:r>
            <a:r>
              <a:rPr b="1" i="1" lang="es-AR" sz="2000" spc="-1" strike="noStrike">
                <a:solidFill>
                  <a:srgbClr val="000099"/>
                </a:solidFill>
                <a:latin typeface="Calibri"/>
              </a:rPr>
              <a:t>monosacár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sto ocurre por la intervención de enzimas conten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los jugos diges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5 CuadroTexto"/>
          <p:cNvSpPr/>
          <p:nvPr/>
        </p:nvSpPr>
        <p:spPr>
          <a:xfrm>
            <a:off x="642960" y="3841920"/>
            <a:ext cx="771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desde la luz intestinal 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Implica procesos de transporte a través de membr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9 CuadroTexto"/>
          <p:cNvSpPr/>
          <p:nvPr/>
        </p:nvSpPr>
        <p:spPr>
          <a:xfrm>
            <a:off x="6985440" y="142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Apliqu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14 Flecha abajo"/>
          <p:cNvSpPr/>
          <p:nvPr/>
        </p:nvSpPr>
        <p:spPr>
          <a:xfrm>
            <a:off x="4500720" y="33606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16 Flecha abajo"/>
          <p:cNvSpPr/>
          <p:nvPr/>
        </p:nvSpPr>
        <p:spPr>
          <a:xfrm>
            <a:off x="4510080" y="51609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provechamiento de los glúcidos para obtención de energía y/o para la síntesis de compuestos cel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1116000" y="952560"/>
            <a:ext cx="4095720" cy="478152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3"/>
          <p:cNvGrpSpPr/>
          <p:nvPr/>
        </p:nvGrpSpPr>
        <p:grpSpPr>
          <a:xfrm>
            <a:off x="2843280" y="1792440"/>
            <a:ext cx="4209840" cy="368280"/>
            <a:chOff x="2843280" y="1792440"/>
            <a:chExt cx="4209840" cy="368280"/>
          </a:xfrm>
        </p:grpSpPr>
        <p:sp>
          <p:nvSpPr>
            <p:cNvPr id="557" name="Line 4"/>
            <p:cNvSpPr/>
            <p:nvPr/>
          </p:nvSpPr>
          <p:spPr>
            <a:xfrm>
              <a:off x="2843280" y="1989000"/>
              <a:ext cx="2715480" cy="180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5"/>
            <p:cNvSpPr/>
            <p:nvPr/>
          </p:nvSpPr>
          <p:spPr>
            <a:xfrm>
              <a:off x="5613480" y="17924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6"/>
          <p:cNvGrpSpPr/>
          <p:nvPr/>
        </p:nvGrpSpPr>
        <p:grpSpPr>
          <a:xfrm>
            <a:off x="3132000" y="4071960"/>
            <a:ext cx="6081840" cy="642600"/>
            <a:chOff x="3132000" y="4071960"/>
            <a:chExt cx="6081840" cy="642600"/>
          </a:xfrm>
        </p:grpSpPr>
        <p:sp>
          <p:nvSpPr>
            <p:cNvPr id="560" name="Line 7"/>
            <p:cNvSpPr/>
            <p:nvPr/>
          </p:nvSpPr>
          <p:spPr>
            <a:xfrm>
              <a:off x="3132000" y="4508640"/>
              <a:ext cx="255348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"/>
            <p:cNvSpPr/>
            <p:nvPr/>
          </p:nvSpPr>
          <p:spPr>
            <a:xfrm>
              <a:off x="5732280" y="4071960"/>
              <a:ext cx="348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r>
                <a:rPr b="1" lang="es-ES_tradnl" sz="1800" spc="-1" strike="noStrike">
                  <a:solidFill>
                    <a:srgbClr val="953735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ABSORCIÓN DE NUTR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9"/>
          <p:cNvGrpSpPr/>
          <p:nvPr/>
        </p:nvGrpSpPr>
        <p:grpSpPr>
          <a:xfrm>
            <a:off x="3564000" y="3521160"/>
            <a:ext cx="3587760" cy="368280"/>
            <a:chOff x="3564000" y="3521160"/>
            <a:chExt cx="3587760" cy="368280"/>
          </a:xfrm>
        </p:grpSpPr>
        <p:sp>
          <p:nvSpPr>
            <p:cNvPr id="563" name="Line 10"/>
            <p:cNvSpPr/>
            <p:nvPr/>
          </p:nvSpPr>
          <p:spPr>
            <a:xfrm>
              <a:off x="3564000" y="3789360"/>
              <a:ext cx="2155320" cy="14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712120" y="35211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70c0"/>
                  </a:solidFill>
                  <a:latin typeface="Arial"/>
                </a:rPr>
                <a:t>DIGEST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12"/>
          <p:cNvSpPr/>
          <p:nvPr/>
        </p:nvSpPr>
        <p:spPr>
          <a:xfrm>
            <a:off x="2263680" y="71280"/>
            <a:ext cx="59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gestión - Absorción - Metabo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¿Dónde ocurr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5381640" y="485784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567" name="14 Flecha abajo"/>
          <p:cNvSpPr/>
          <p:nvPr/>
        </p:nvSpPr>
        <p:spPr>
          <a:xfrm>
            <a:off x="6357960" y="4643280"/>
            <a:ext cx="14292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6" descr="https://encrypted-tbn0.gstatic.com/images?q=tbn:ANd9GcQ_mMqCoWoHOwqRncCnMIO8eT93NL-zO_OqykfExUwFU-QjzTjT"/>
          <p:cNvPicPr/>
          <p:nvPr/>
        </p:nvPicPr>
        <p:blipFill>
          <a:blip r:embed="rId3"/>
          <a:stretch/>
        </p:blipFill>
        <p:spPr>
          <a:xfrm>
            <a:off x="7358040" y="4816440"/>
            <a:ext cx="1785960" cy="2041560"/>
          </a:xfrm>
          <a:prstGeom prst="rect">
            <a:avLst/>
          </a:prstGeom>
          <a:ln w="0">
            <a:noFill/>
          </a:ln>
        </p:spPr>
      </p:pic>
      <p:sp>
        <p:nvSpPr>
          <p:cNvPr id="573" name="17 Flecha derecha"/>
          <p:cNvSpPr/>
          <p:nvPr/>
        </p:nvSpPr>
        <p:spPr>
          <a:xfrm>
            <a:off x="6500880" y="5715000"/>
            <a:ext cx="157140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25 CuadroTexto"/>
          <p:cNvSpPr/>
          <p:nvPr/>
        </p:nvSpPr>
        <p:spPr>
          <a:xfrm>
            <a:off x="6217920" y="5857920"/>
            <a:ext cx="225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26220"/>
                </a:solidFill>
                <a:latin typeface="Arial"/>
              </a:rPr>
              <a:t>METABO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26220"/>
                </a:solidFill>
                <a:latin typeface="Arial"/>
              </a:rPr>
              <a:t>(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26220"/>
                </a:solidFill>
                <a:latin typeface="Arial"/>
              </a:rPr>
              <a:t>Degrad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26 CuadroTexto"/>
          <p:cNvSpPr/>
          <p:nvPr/>
        </p:nvSpPr>
        <p:spPr>
          <a:xfrm>
            <a:off x="6153120" y="5661000"/>
            <a:ext cx="2265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0"/>
          <p:cNvSpPr/>
          <p:nvPr/>
        </p:nvSpPr>
        <p:spPr>
          <a:xfrm>
            <a:off x="3190680" y="602136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900000" y="189000"/>
            <a:ext cx="6985080" cy="120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0" bIns="40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BOHIDRATOS DE LA DI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1"/>
          <p:cNvSpPr/>
          <p:nvPr/>
        </p:nvSpPr>
        <p:spPr>
          <a:xfrm>
            <a:off x="627480" y="2133720"/>
            <a:ext cx="19897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i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2"/>
          <p:cNvSpPr/>
          <p:nvPr/>
        </p:nvSpPr>
        <p:spPr>
          <a:xfrm>
            <a:off x="2771640" y="198900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3"/>
          <p:cNvSpPr/>
          <p:nvPr/>
        </p:nvSpPr>
        <p:spPr>
          <a:xfrm>
            <a:off x="610920" y="3933720"/>
            <a:ext cx="17701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2556000" y="357336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"/>
          <p:cNvSpPr/>
          <p:nvPr/>
        </p:nvSpPr>
        <p:spPr>
          <a:xfrm>
            <a:off x="555120" y="5516640"/>
            <a:ext cx="22456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6"/>
          <p:cNvSpPr/>
          <p:nvPr/>
        </p:nvSpPr>
        <p:spPr>
          <a:xfrm>
            <a:off x="2916360" y="5230800"/>
            <a:ext cx="360360" cy="1150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3135240" y="1844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Almi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8"/>
          <p:cNvSpPr/>
          <p:nvPr/>
        </p:nvSpPr>
        <p:spPr>
          <a:xfrm>
            <a:off x="4594680" y="184464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granos, harinas, tubércul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u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4"/>
          <p:cNvSpPr/>
          <p:nvPr/>
        </p:nvSpPr>
        <p:spPr>
          <a:xfrm>
            <a:off x="3061440" y="26370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lucóg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9"/>
          <p:cNvSpPr/>
          <p:nvPr/>
        </p:nvSpPr>
        <p:spPr>
          <a:xfrm>
            <a:off x="4643280" y="2637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2917800" y="34290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Sacar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4736880" y="3357720"/>
            <a:ext cx="33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utas, azúcar de me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mol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2917440" y="43657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Lact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4"/>
          <p:cNvSpPr/>
          <p:nvPr/>
        </p:nvSpPr>
        <p:spPr>
          <a:xfrm>
            <a:off x="4523040" y="43657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e y de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3277800" y="51577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- Gl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3204360" y="558972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7"/>
          <p:cNvSpPr/>
          <p:nvPr/>
        </p:nvSpPr>
        <p:spPr>
          <a:xfrm>
            <a:off x="4938480" y="515772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utas, miel, golosin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2" descr="Resultado de imagen para alimentos con azúcares"/>
          <p:cNvPicPr/>
          <p:nvPr/>
        </p:nvPicPr>
        <p:blipFill>
          <a:blip r:embed="rId1"/>
          <a:stretch/>
        </p:blipFill>
        <p:spPr>
          <a:xfrm>
            <a:off x="5072040" y="5715000"/>
            <a:ext cx="1416240" cy="785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4" descr="Resultado de imagen para alimentos con azúcares"/>
          <p:cNvPicPr/>
          <p:nvPr/>
        </p:nvPicPr>
        <p:blipFill>
          <a:blip r:embed="rId2"/>
          <a:stretch/>
        </p:blipFill>
        <p:spPr>
          <a:xfrm>
            <a:off x="6500880" y="5651640"/>
            <a:ext cx="2714400" cy="1135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8" descr="Resultado de imagen para alimentos con lactosa"/>
          <p:cNvPicPr/>
          <p:nvPr/>
        </p:nvPicPr>
        <p:blipFill>
          <a:blip r:embed="rId3"/>
          <a:stretch/>
        </p:blipFill>
        <p:spPr>
          <a:xfrm>
            <a:off x="7000920" y="4172040"/>
            <a:ext cx="1428840" cy="97164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3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4" descr="Resultado de imagen para alimentos con sacarosa"/>
          <p:cNvPicPr/>
          <p:nvPr/>
        </p:nvPicPr>
        <p:blipFill>
          <a:blip r:embed="rId4"/>
          <a:stretch/>
        </p:blipFill>
        <p:spPr>
          <a:xfrm>
            <a:off x="8001000" y="3335400"/>
            <a:ext cx="1143000" cy="87948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3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4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2" descr="Resultado de imagen para alimentos con almidón"/>
          <p:cNvPicPr/>
          <p:nvPr/>
        </p:nvPicPr>
        <p:blipFill>
          <a:blip r:embed="rId5"/>
          <a:stretch/>
        </p:blipFill>
        <p:spPr>
          <a:xfrm>
            <a:off x="6975360" y="2230560"/>
            <a:ext cx="1700280" cy="11271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1" descr=""/>
          <p:cNvPicPr/>
          <p:nvPr/>
        </p:nvPicPr>
        <p:blipFill>
          <a:blip r:embed="rId6"/>
          <a:stretch/>
        </p:blipFill>
        <p:spPr>
          <a:xfrm>
            <a:off x="5767560" y="2637000"/>
            <a:ext cx="1233360" cy="8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2316240" y="285840"/>
            <a:ext cx="6827760" cy="59022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502800" y="142920"/>
            <a:ext cx="377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olisacárido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6"/>
          <p:cNvGrpSpPr/>
          <p:nvPr/>
        </p:nvGrpSpPr>
        <p:grpSpPr>
          <a:xfrm>
            <a:off x="2428920" y="662040"/>
            <a:ext cx="3714840" cy="3510360"/>
            <a:chOff x="2428920" y="662040"/>
            <a:chExt cx="3714840" cy="3510360"/>
          </a:xfrm>
        </p:grpSpPr>
        <p:sp>
          <p:nvSpPr>
            <p:cNvPr id="609" name="Text Box 4"/>
            <p:cNvSpPr/>
            <p:nvPr/>
          </p:nvSpPr>
          <p:spPr>
            <a:xfrm>
              <a:off x="2714760" y="662040"/>
              <a:ext cx="2786040" cy="64260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Cloroplasto  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 Almidón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5"/>
            <p:cNvSpPr/>
            <p:nvPr/>
          </p:nvSpPr>
          <p:spPr>
            <a:xfrm>
              <a:off x="2428920" y="3591000"/>
              <a:ext cx="3714840" cy="581400"/>
            </a:xfrm>
            <a:prstGeom prst="rect">
              <a:avLst/>
            </a:prstGeom>
            <a:solidFill>
              <a:srgbClr val="f8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Mitocondria</a:t>
              </a:r>
              <a:r>
                <a:rPr b="1" lang="es-ES_tradnl" sz="1600" spc="-1" strike="noStrike">
                  <a:solidFill>
                    <a:srgbClr val="c0504d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Glucógeno </a:t>
              </a: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(gránulos)</a:t>
              </a: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       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7"/>
          <p:cNvSpPr/>
          <p:nvPr/>
        </p:nvSpPr>
        <p:spPr>
          <a:xfrm>
            <a:off x="5084280" y="6000840"/>
            <a:ext cx="36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822cd"/>
                </a:solidFill>
                <a:latin typeface="Arial"/>
              </a:rPr>
              <a:t>% Ramificación: amilopectina 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822cd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1822cd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1822cd"/>
                </a:solidFill>
                <a:latin typeface="Arial"/>
              </a:rPr>
              <a:t>glucógeno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9" descr="Imagen relacionada"/>
          <p:cNvPicPr/>
          <p:nvPr/>
        </p:nvPicPr>
        <p:blipFill>
          <a:blip r:embed="rId2"/>
          <a:stretch/>
        </p:blipFill>
        <p:spPr>
          <a:xfrm>
            <a:off x="285840" y="4572000"/>
            <a:ext cx="2071440" cy="1441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1" descr="Imagen relacionada"/>
          <p:cNvPicPr/>
          <p:nvPr/>
        </p:nvPicPr>
        <p:blipFill>
          <a:blip r:embed="rId3"/>
          <a:stretch/>
        </p:blipFill>
        <p:spPr>
          <a:xfrm>
            <a:off x="214200" y="1643040"/>
            <a:ext cx="1643040" cy="8589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3" descr="Resultado de imagen para espinacas y acelgas"/>
          <p:cNvPicPr/>
          <p:nvPr/>
        </p:nvPicPr>
        <p:blipFill>
          <a:blip r:embed="rId4"/>
          <a:stretch/>
        </p:blipFill>
        <p:spPr>
          <a:xfrm>
            <a:off x="500040" y="2571840"/>
            <a:ext cx="1643040" cy="815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7" descr="Resultado de imagen para granos de cereales"/>
          <p:cNvPicPr/>
          <p:nvPr/>
        </p:nvPicPr>
        <p:blipFill>
          <a:blip r:embed="rId5"/>
          <a:stretch/>
        </p:blipFill>
        <p:spPr>
          <a:xfrm>
            <a:off x="142920" y="285840"/>
            <a:ext cx="2214360" cy="14288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4"/>
          <p:cNvSpPr/>
          <p:nvPr/>
        </p:nvSpPr>
        <p:spPr>
          <a:xfrm>
            <a:off x="2428920" y="2786040"/>
            <a:ext cx="1857240" cy="520200"/>
          </a:xfrm>
          <a:prstGeom prst="rect">
            <a:avLst/>
          </a:prstGeom>
          <a:solidFill>
            <a:srgbClr val="f8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2357280" y="5572080"/>
            <a:ext cx="2214720" cy="520200"/>
          </a:xfrm>
          <a:prstGeom prst="rect">
            <a:avLst/>
          </a:prstGeom>
          <a:solidFill>
            <a:srgbClr val="f8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5643720" y="3000240"/>
            <a:ext cx="1357200" cy="520200"/>
          </a:xfrm>
          <a:prstGeom prst="rect">
            <a:avLst/>
          </a:prstGeom>
          <a:solidFill>
            <a:srgbClr val="f8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Amilosa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7500960" y="3000240"/>
            <a:ext cx="1357200" cy="520200"/>
          </a:xfrm>
          <a:prstGeom prst="rect">
            <a:avLst/>
          </a:prstGeom>
          <a:solidFill>
            <a:srgbClr val="f8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Amilopectina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9" descr="Imagen relacionada"/>
          <p:cNvPicPr/>
          <p:nvPr/>
        </p:nvPicPr>
        <p:blipFill>
          <a:blip r:embed="rId6"/>
          <a:stretch/>
        </p:blipFill>
        <p:spPr>
          <a:xfrm>
            <a:off x="438120" y="4724280"/>
            <a:ext cx="20718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2462040" y="355680"/>
            <a:ext cx="42710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lmidón y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10"/>
          <p:cNvGrpSpPr/>
          <p:nvPr/>
        </p:nvGrpSpPr>
        <p:grpSpPr>
          <a:xfrm>
            <a:off x="2356920" y="2857680"/>
            <a:ext cx="6138000" cy="2786040"/>
            <a:chOff x="2356920" y="2857680"/>
            <a:chExt cx="6138000" cy="2786040"/>
          </a:xfrm>
        </p:grpSpPr>
        <p:sp>
          <p:nvSpPr>
            <p:cNvPr id="625" name="Text Box 3"/>
            <p:cNvSpPr/>
            <p:nvPr/>
          </p:nvSpPr>
          <p:spPr>
            <a:xfrm>
              <a:off x="7012080" y="3429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8"/>
            <p:cNvSpPr/>
            <p:nvPr/>
          </p:nvSpPr>
          <p:spPr>
            <a:xfrm>
              <a:off x="2356920" y="2857680"/>
              <a:ext cx="1474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9"/>
            <p:cNvSpPr/>
            <p:nvPr/>
          </p:nvSpPr>
          <p:spPr>
            <a:xfrm>
              <a:off x="707220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46920" cy="5041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"/>
          <p:cNvSpPr/>
          <p:nvPr/>
        </p:nvSpPr>
        <p:spPr>
          <a:xfrm>
            <a:off x="2133720" y="8380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2606400" y="355680"/>
            <a:ext cx="4350240" cy="581400"/>
          </a:xfrm>
          <a:prstGeom prst="rect">
            <a:avLst/>
          </a:prstGeom>
          <a:solidFill>
            <a:srgbClr val="fff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ructura del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0"/>
          <p:cNvGrpSpPr/>
          <p:nvPr/>
        </p:nvGrpSpPr>
        <p:grpSpPr>
          <a:xfrm>
            <a:off x="2421360" y="2857680"/>
            <a:ext cx="6172560" cy="2786040"/>
            <a:chOff x="2421360" y="2857680"/>
            <a:chExt cx="6172560" cy="2786040"/>
          </a:xfrm>
        </p:grpSpPr>
        <p:sp>
          <p:nvSpPr>
            <p:cNvPr id="635" name="Text Box 3"/>
            <p:cNvSpPr/>
            <p:nvPr/>
          </p:nvSpPr>
          <p:spPr>
            <a:xfrm>
              <a:off x="6933240" y="3429000"/>
              <a:ext cx="16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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7"/>
            <p:cNvSpPr/>
            <p:nvPr/>
          </p:nvSpPr>
          <p:spPr>
            <a:xfrm>
              <a:off x="4284720" y="5138640"/>
              <a:ext cx="122400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8"/>
            <p:cNvSpPr/>
            <p:nvPr/>
          </p:nvSpPr>
          <p:spPr>
            <a:xfrm>
              <a:off x="2421360" y="2857680"/>
              <a:ext cx="148068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1f05bb"/>
                  </a:solidFill>
                  <a:latin typeface="Arial"/>
                </a:rPr>
                <a:t>unión</a:t>
              </a:r>
              <a:r>
                <a:rPr b="1" lang="es-ES_tradnl" sz="1800" spc="-1" strike="noStrike">
                  <a:solidFill>
                    <a:srgbClr val="1f05bb"/>
                  </a:solidFill>
                  <a:latin typeface="Symbol"/>
                  <a:ea typeface="Symbol"/>
                </a:rPr>
                <a:t>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adena lin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9"/>
            <p:cNvSpPr/>
            <p:nvPr/>
          </p:nvSpPr>
          <p:spPr>
            <a:xfrm>
              <a:off x="6973920" y="3786120"/>
              <a:ext cx="1422720" cy="5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unt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am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Rectangle 7"/>
          <p:cNvSpPr/>
          <p:nvPr/>
        </p:nvSpPr>
        <p:spPr>
          <a:xfrm>
            <a:off x="4071960" y="3714840"/>
            <a:ext cx="11523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4589640" y="5443560"/>
            <a:ext cx="122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13 CuadroTexto"/>
          <p:cNvSpPr/>
          <p:nvPr/>
        </p:nvSpPr>
        <p:spPr>
          <a:xfrm>
            <a:off x="10080" y="35719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tr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o Re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15 Conector recto de flecha"/>
          <p:cNvCxnSpPr>
            <a:stCxn id="641" idx="0"/>
          </p:cNvCxnSpPr>
          <p:nvPr/>
        </p:nvCxnSpPr>
        <p:spPr>
          <a:xfrm flipV="1">
            <a:off x="911880" y="3357000"/>
            <a:ext cx="80244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3" name="16 Conector recto de flecha"/>
          <p:cNvCxnSpPr/>
          <p:nvPr/>
        </p:nvCxnSpPr>
        <p:spPr>
          <a:xfrm>
            <a:off x="857160" y="4143240"/>
            <a:ext cx="2865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4" name="17 Conector recto de flecha"/>
          <p:cNvCxnSpPr/>
          <p:nvPr/>
        </p:nvCxnSpPr>
        <p:spPr>
          <a:xfrm>
            <a:off x="571680" y="4214880"/>
            <a:ext cx="786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5" name="23 Conector recto de flecha"/>
          <p:cNvCxnSpPr/>
          <p:nvPr/>
        </p:nvCxnSpPr>
        <p:spPr>
          <a:xfrm flipV="1">
            <a:off x="1142640" y="3785400"/>
            <a:ext cx="42948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" descr="1 aparato digestivo"/>
          <p:cNvPicPr/>
          <p:nvPr/>
        </p:nvPicPr>
        <p:blipFill>
          <a:blip r:embed="rId1"/>
          <a:stretch/>
        </p:blipFill>
        <p:spPr>
          <a:xfrm>
            <a:off x="155520" y="765000"/>
            <a:ext cx="5056200" cy="5905800"/>
          </a:xfrm>
          <a:prstGeom prst="rect">
            <a:avLst/>
          </a:prstGeom>
          <a:ln w="0">
            <a:noFill/>
          </a:ln>
        </p:spPr>
      </p:pic>
      <p:sp>
        <p:nvSpPr>
          <p:cNvPr id="647" name="Line 5"/>
          <p:cNvSpPr/>
          <p:nvPr/>
        </p:nvSpPr>
        <p:spPr>
          <a:xfrm>
            <a:off x="2627280" y="1989000"/>
            <a:ext cx="2808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5363640" y="1773360"/>
            <a:ext cx="2244240" cy="76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Amilasa sal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(Ptialin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6"/>
          <p:cNvSpPr/>
          <p:nvPr/>
        </p:nvSpPr>
        <p:spPr>
          <a:xfrm>
            <a:off x="2987640" y="5084640"/>
            <a:ext cx="24480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5448600" y="4724280"/>
            <a:ext cx="2923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Amilasa pancre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Calibri"/>
              </a:rPr>
              <a:t>Disacarid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3132000" y="4292640"/>
            <a:ext cx="237672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5511240" y="3741840"/>
            <a:ext cx="2020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pH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á</a:t>
            </a: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ci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alibri"/>
              </a:rPr>
              <a:t>inactiva la 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50920" y="115920"/>
            <a:ext cx="8893080" cy="110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Digestión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¿Qué enzimas partici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7"/>
          <p:cNvSpPr/>
          <p:nvPr/>
        </p:nvSpPr>
        <p:spPr>
          <a:xfrm>
            <a:off x="395280" y="176688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8"/>
          <p:cNvSpPr/>
          <p:nvPr/>
        </p:nvSpPr>
        <p:spPr>
          <a:xfrm>
            <a:off x="3635280" y="38545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TOM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9"/>
          <p:cNvSpPr/>
          <p:nvPr/>
        </p:nvSpPr>
        <p:spPr>
          <a:xfrm>
            <a:off x="73080" y="47181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0"/>
          <p:cNvSpPr/>
          <p:nvPr/>
        </p:nvSpPr>
        <p:spPr>
          <a:xfrm>
            <a:off x="3529080" y="522288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T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179280" y="364500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Soporte</cp:lastModifiedBy>
  <dcterms:modified xsi:type="dcterms:W3CDTF">2017-08-31T20:43:17Z</dcterms:modified>
  <cp:revision>208</cp:revision>
  <dc:subject/>
  <dc:title>Diapositiva 1</dc:title>
</cp:coreProperties>
</file>